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png" ContentType="image/png"/>
  <Override PartName="/ppt/media/cashreg.wav" ContentType="audio/x-wav"/>
  <Override PartName="/ppt/media/image5.png" ContentType="image/png"/>
  <Override PartName="/ppt/media/whoosh.wav" ContentType="audio/x-wav"/>
  <Override PartName="/ppt/media/image6.png" ContentType="image/png"/>
  <Override PartName="/ppt/media/camera.wav" ContentType="audio/x-wav"/>
  <Override PartName="/ppt/media/chimes.wav" ContentType="audio/x-wav"/>
  <Override PartName="/ppt/media/image8.png" ContentType="image/png"/>
  <Override PartName="/ppt/media/image9.png" ContentType="image/png"/>
  <Override PartName="/ppt/media/drumroll.wav" ContentType="audio/x-wav"/>
  <Override PartName="/ppt/media/voltage.wav" ContentType="audio/x-wav"/>
  <Override PartName="/ppt/media/image1.png" ContentType="image/png"/>
  <Override PartName="/ppt/media/image2.png" ContentType="image/png"/>
  <Override PartName="/ppt/media/applause.wav" ContentType="audio/x-wav"/>
  <Override PartName="/ppt/media/breeze.wav" ContentType="audio/x-wav"/>
  <Override PartName="/ppt/media/image10.png" ContentType="image/png"/>
  <Override PartName="/ppt/media/image3.png" ContentType="image/png"/>
  <Override PartName="/ppt/media/click.wav" ContentType="audio/x-wav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8952D-4F8D-4840-A2C5-60E3B4DA44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22B-BA1A-4622-83B7-58028194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E28-FDF1-4C03-9FDC-235B8898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27A-D76F-4FC4-B303-416F116E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247-4641-4CA0-AC9E-0582C163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03B3-DC7B-4D75-A5E7-3125B91C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D645-C210-434C-AC23-DCB4616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1176-8FB3-4912-9382-0CA3D00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D28-7450-4B92-946C-EBB2E7C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25E-A4D0-452A-9A55-311E54CE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89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BC5E-1F60-4DAE-A18A-83705D2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210-FD5A-4429-9F6B-37D929F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54-F53A-4200-815F-0785C23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9B81-746D-4502-B1CF-29F637C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465-577D-40F7-AD1A-8B2BC4E7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A0B-1A6F-466B-A30D-22F5D09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6792-70C2-41DC-8297-7F2DD941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CAD-CFE4-4658-BCFD-4FA0CFE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5C7-E900-4DC6-A35B-2E4485B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1C8-12B3-4F53-B9BB-C705F009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613-3203-4A7B-B5A3-62E38C9F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0960" cy="89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21F-D037-4424-AE18-CD2194A5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50B-70F5-414C-A907-64F3E3B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FF9-496D-4DC2-8CBE-D127FA5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50A-BB8C-42B7-A480-F4972A6B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DF3EF-C52D-47E2-9929-9CEFC344C3F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13003-011B-4453-BF3D-B434E63331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BODIL KE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</a:rPr>
              <a:t>CAROLINE BR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71440"/>
            <a:ext cx="77724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Call of 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582640" cy="2583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741240" indent="-284040" algn="r">
              <a:lnSpc>
                <a:spcPct val="95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741240"/>
                <a:tab algn="l" pos="1655640"/>
                <a:tab algn="l" pos="2570040"/>
                <a:tab algn="l" pos="3484440"/>
                <a:tab algn="l" pos="4398840"/>
                <a:tab algn="l" pos="5313240"/>
                <a:tab algn="l" pos="6227640"/>
                <a:tab algn="l" pos="7142040"/>
                <a:tab algn="l" pos="8056440"/>
                <a:tab algn="l" pos="8970840"/>
                <a:tab algn="l" pos="9885240"/>
                <a:tab algn="l" pos="107996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Lucida Sans Unicode"/>
              </a:rPr>
              <a:t>The government is writing new bills that require all new cars to meet specific environmental qualification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does human activities cause global warming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cause global warming by many things.  By littering, driving cars that burn lots of fuel that create lots of green house gasses, and clear cutting forests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35320" cy="143496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does global warming impact the planet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Global warming impacts the planet by increasing the earths temperature a little at a time. Which causes more evaporation and less water for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QUES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How can people slow the rate of global warming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ANS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can slow the rate of global warming by recycling, driving hybrid cars, and eating and buying more organic thing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oper Black"/>
              </a:rPr>
              <a:t>one result of</a:t>
            </a:r>
            <a:r>
              <a:rPr b="0" lang="en-GB" sz="6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Cooper Black"/>
              </a:rPr>
              <a:t>global war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The polar icecaps are mel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3200400"/>
            <a:ext cx="3373560" cy="3373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oper Black"/>
              </a:rPr>
              <a:t>What is being done?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</a:rPr>
              <a:t>People are recycling more and using more efficient items such as… compact florescent bulbs, and water filters instead of plastic bot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rstin behn</dc:creator>
  <dc:description/>
  <dc:language>en-US</dc:language>
  <cp:lastModifiedBy>kirstin behn</cp:lastModifiedBy>
  <cp:revision>0</cp:revision>
  <dc:subject/>
  <dc:title>GLOBAL WARMING</dc:title>
</cp:coreProperties>
</file>